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30B-AD76-45DB-8DA5-7E6AF7B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FD4-4F29-47D2-932F-FBFB9D6C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492-87F2-42D1-98D6-B364F9FC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A36-0813-4BCB-9D21-3CBBB513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1FD-974A-46F1-8EB5-8FD91A5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8FE-53C9-41AF-8C99-780B797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B39-79F5-4E3E-A4F6-0A98665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88B-BD09-4A95-9383-9F52938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AC4-64EE-4077-B442-3A60B3E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464-C418-4493-9A9E-4B4C5B7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037-6D93-422A-BF00-51AB83B5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D4A-79A1-4EFA-8E3B-14C393B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0DD-4915-4C75-930B-34FA3DA5CAC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 R&amp;D-strategy-workshop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836640"/>
          <a:ext cx="8207280" cy="3919680"/>
        </p:xfrm>
        <a:graphic>
          <a:graphicData uri="http://schemas.openxmlformats.org/drawingml/2006/table">
            <a:tbl>
              <a:tblPr/>
              <a:tblGrid>
                <a:gridCol w="1871640"/>
                <a:gridCol w="633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19120" y="4724280"/>
            <a:ext cx="808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sentation of each organization by the participa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opics to address in the presenta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eople incl. education and skil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ing model and process including meas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s and running projects in the respectiv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sul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afterno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hat has to be done to become one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ision, Miss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oals to rea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alue of one R&amp;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llaboration of the different organizations insid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xpectations on the others as well as on your ow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overcome prejudi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duce anxiety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How to …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chieve the defined targets and goa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mprove collabor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djust to new technologies and business need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njoy compet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troop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369720" y="461484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uesday after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9720" y="5311800"/>
            <a:ext cx="8305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ac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4T11:49:34Z</dcterms:modified>
  <cp:revision>60</cp:revision>
  <dc:subject/>
  <dc:title>PowerPoint 簡報</dc:title>
</cp:coreProperties>
</file>